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7C3A-0FED-4059-81EB-45F5555E1DB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6BC8-5533-4519-B4B0-4A9CBDE29B77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5AC8-386C-46B0-A08B-855537585A55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7808-1C09-4241-90F0-EEFC7DFBD3D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3777-8A46-4F41-902F-7E560BB2299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211E-7956-446E-A888-9F969FBDE0C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7DEED-52AB-43E5-9C56-7C3A9CBCA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2B639E-56A5-47F5-9FC0-298A2D03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8A15B-47AA-4A63-ABF6-7CDEDF64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3383F-130A-44A9-BEFC-9EDFE657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F9985-5466-421A-9B44-AEFED0D6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747A9-30B2-4B74-A60F-6B31005D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9B3C9-422E-45F9-A37E-B1E74026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879D0-81F0-4186-A9F5-1C4A0EA2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1C914-2140-4BD8-A5D6-66ABB7B7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426C3-CD0E-40A2-A697-A0819A04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983BE-8BCE-47D6-BA8C-192BEAB0A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3559C-1C18-462A-9C94-936BC359A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352226-9472-4962-BACE-4812A5739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9E8987-EF12-4E47-8D34-817C4C26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99391B-59A5-449E-AA45-7E03FCEE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9E0A88-1E7D-4B98-85D3-16B413D7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97F680-910A-43C0-A4B3-FE3ECFC2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72AC63-36E4-43CD-A030-502E39B4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C00786-36BF-49EF-8484-D2A71599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1EF218-83EB-463D-8C5A-63752835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A33934-D4C0-4EAC-B4FE-244DEC77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150977-D87F-4ACF-9DE0-CAC4A24B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4FA16B-C11B-4718-8D00-0A5F4D3A9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BB2A68-4DF0-4171-9F30-05F301BF8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31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E929-2F68-4BC9-A34A-2CE95D3E09B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9BCE-D280-45CB-8665-1CDE3EBB788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31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EE7B-E001-43CB-9948-6B4C8F075AE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27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8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9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13E6-7181-499B-9BEA-642C91FB2243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9AA3-A4BA-4334-80D3-70A32588495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2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3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3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3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3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4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F51F-230B-4C89-8253-57592D6C58A2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8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9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9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9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4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0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A5A7-E765-48CC-87A5-6E1818912B2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4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5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5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6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6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3109-28DE-457C-A6B3-C049EA2B821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7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49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image" Target="../media/image7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50560" y="981000"/>
            <a:ext cx="8785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7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700" spc="-1" strike="noStrike">
                <a:solidFill>
                  <a:srgbClr val="ffffff"/>
                </a:solidFill>
                <a:latin typeface="HY강B"/>
                <a:ea typeface="HY강B"/>
              </a:rPr>
              <a:t>1 </a:t>
            </a:r>
            <a:r>
              <a:rPr b="1" lang="ko-KR" sz="5700" spc="-1" strike="noStrike">
                <a:solidFill>
                  <a:srgbClr val="ffffff"/>
                </a:solidFill>
                <a:latin typeface="HY강B"/>
                <a:ea typeface="HY강B"/>
              </a:rPr>
              <a:t>부 노화와 노인의 이해</a:t>
            </a:r>
            <a:endParaRPr b="0" lang="en-US" sz="57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419" name="Picture 4" descr="그림1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213840" y="3213000"/>
            <a:ext cx="85345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HY강B"/>
                <a:ea typeface="HY강B"/>
              </a:rPr>
              <a:t>1</a:t>
            </a:r>
            <a:r>
              <a:rPr b="1" lang="ko-KR" sz="4500" spc="-1" strike="noStrike">
                <a:solidFill>
                  <a:srgbClr val="ffff00"/>
                </a:solidFill>
                <a:latin typeface="HY강B"/>
                <a:ea typeface="HY강B"/>
              </a:rPr>
              <a:t>장 노인과 노인문제</a:t>
            </a:r>
            <a:endParaRPr b="0" lang="en-US" sz="45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강B"/>
                <a:ea typeface="HY강B"/>
              </a:rPr>
              <a:t>2</a:t>
            </a:r>
            <a:r>
              <a:rPr b="0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장 노화의 과정과 결과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그룹 6"/>
          <p:cNvGrpSpPr/>
          <p:nvPr/>
        </p:nvGrpSpPr>
        <p:grpSpPr>
          <a:xfrm>
            <a:off x="142920" y="0"/>
            <a:ext cx="9001080" cy="6259680"/>
            <a:chOff x="142920" y="0"/>
            <a:chExt cx="9001080" cy="6259680"/>
          </a:xfrm>
        </p:grpSpPr>
        <p:grpSp>
          <p:nvGrpSpPr>
            <p:cNvPr id="521" name="그룹 1"/>
            <p:cNvGrpSpPr/>
            <p:nvPr/>
          </p:nvGrpSpPr>
          <p:grpSpPr>
            <a:xfrm>
              <a:off x="142920" y="500040"/>
              <a:ext cx="8929080" cy="5759640"/>
              <a:chOff x="142920" y="500040"/>
              <a:chExt cx="8929080" cy="5759640"/>
            </a:xfrm>
          </p:grpSpPr>
          <p:sp>
            <p:nvSpPr>
              <p:cNvPr id="522" name="AutoShape 2"/>
              <p:cNvSpPr/>
              <p:nvPr/>
            </p:nvSpPr>
            <p:spPr>
              <a:xfrm>
                <a:off x="142920" y="1357200"/>
                <a:ext cx="8820720" cy="4858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3" name="AutoShape 4"/>
              <p:cNvSpPr/>
              <p:nvPr/>
            </p:nvSpPr>
            <p:spPr>
              <a:xfrm>
                <a:off x="285480" y="500040"/>
                <a:ext cx="4714920" cy="542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인구의 특성 변화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4" name="Text Box 6"/>
              <p:cNvSpPr/>
              <p:nvPr/>
            </p:nvSpPr>
            <p:spPr>
              <a:xfrm>
                <a:off x="251280" y="1465200"/>
                <a:ext cx="8820720" cy="479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6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도시에 거주하지만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의 인구고령화가 더 빠르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지자체의 재정자립도 낮아 노인복지 한계로 농촌 노인문제 심화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후기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노인의 증가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호 욕구 증가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-4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간 성비는 증가하나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여성노인 문제 심화 가능성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-5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성의 유배우율은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4%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은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8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고령 독신 여성노인 문제 증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수준 상승으로 고학력 노인 증가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욕구 다양화와 수준 상승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별거 경향 강화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9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별거율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7.0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2.4%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거노인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구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.9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7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9.9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 가구 증가추이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노인복지제도는 노인의‘기초생활보장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삶의 질 향상’요구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동시 직면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525" name="Picture 2" descr="C:\DOCUME~1\USER\LOCALS~1\Temp\UNI0000080471b7.gif"/>
            <p:cNvPicPr/>
            <p:nvPr/>
          </p:nvPicPr>
          <p:blipFill>
            <a:blip r:embed="rId8"/>
            <a:stretch/>
          </p:blipFill>
          <p:spPr>
            <a:xfrm>
              <a:off x="7880400" y="0"/>
              <a:ext cx="126360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그룹 6"/>
          <p:cNvGrpSpPr/>
          <p:nvPr/>
        </p:nvGrpSpPr>
        <p:grpSpPr>
          <a:xfrm>
            <a:off x="142920" y="0"/>
            <a:ext cx="9001080" cy="6357960"/>
            <a:chOff x="142920" y="0"/>
            <a:chExt cx="9001080" cy="6357960"/>
          </a:xfrm>
        </p:grpSpPr>
        <p:pic>
          <p:nvPicPr>
            <p:cNvPr id="527" name="Picture 2" descr="C:\DOCUME~1\USER\LOCALS~1\Temp\UNI0000080471b7.gif"/>
            <p:cNvPicPr/>
            <p:nvPr/>
          </p:nvPicPr>
          <p:blipFill>
            <a:blip r:embed="rId1"/>
            <a:stretch/>
          </p:blipFill>
          <p:spPr>
            <a:xfrm>
              <a:off x="7880400" y="0"/>
              <a:ext cx="126360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8" name="그룹 1"/>
            <p:cNvGrpSpPr/>
            <p:nvPr/>
          </p:nvGrpSpPr>
          <p:grpSpPr>
            <a:xfrm>
              <a:off x="142920" y="142560"/>
              <a:ext cx="8858520" cy="6215400"/>
              <a:chOff x="142920" y="142560"/>
              <a:chExt cx="8858520" cy="6215400"/>
            </a:xfrm>
          </p:grpSpPr>
          <p:sp>
            <p:nvSpPr>
              <p:cNvPr id="529" name="AutoShape 4"/>
              <p:cNvSpPr/>
              <p:nvPr/>
            </p:nvSpPr>
            <p:spPr>
              <a:xfrm>
                <a:off x="285480" y="142560"/>
                <a:ext cx="5786640" cy="576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인구 증가의 사회적 파장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0" name="AutoShape 2"/>
              <p:cNvSpPr/>
              <p:nvPr/>
            </p:nvSpPr>
            <p:spPr>
              <a:xfrm>
                <a:off x="142920" y="999720"/>
                <a:ext cx="8858520" cy="5358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1" name="Text Box 6"/>
              <p:cNvSpPr/>
              <p:nvPr/>
            </p:nvSpPr>
            <p:spPr>
              <a:xfrm>
                <a:off x="251280" y="1149120"/>
                <a:ext cx="8750160" cy="50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화에 대한 관점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Agequake, Gray Dawn,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고령화는 위기이자 기회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동력 부족과 노동생산성 저하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성장의 둔화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산업구조의 재편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구매력 증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분야 성장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동산 시장 변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sun belt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별거로 주택수요 증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(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형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가격 상승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금융시장 변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축감소로 인한 가용자금 축소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투자위축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성장 둔화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의 재정위기 및 정책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우선순위 결정의 갈등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간 불균형 발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어촌 공동화 및 생산성 저하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어촌지역 복지 위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대간 갈등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연령인구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간의 연금 갈등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동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우선순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치구조 재편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주도계층변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제도의 재편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생교육체계 강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용하게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의 눈에 띄지 않게 진행되는 사회혁명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정치권이나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책당국은‘의도적으로 눈을 감아버림’으로써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화로 인한 사회불안이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중될 것으로 예측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그룹 10"/>
          <p:cNvGrpSpPr/>
          <p:nvPr/>
        </p:nvGrpSpPr>
        <p:grpSpPr>
          <a:xfrm>
            <a:off x="0" y="0"/>
            <a:ext cx="9144000" cy="6500520"/>
            <a:chOff x="0" y="0"/>
            <a:chExt cx="9144000" cy="6500520"/>
          </a:xfrm>
        </p:grpSpPr>
        <p:pic>
          <p:nvPicPr>
            <p:cNvPr id="53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Rectangle 2"/>
            <p:cNvSpPr/>
            <p:nvPr/>
          </p:nvSpPr>
          <p:spPr>
            <a:xfrm>
              <a:off x="1357200" y="142560"/>
              <a:ext cx="7786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노인의 욕구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문제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노인복지의 관계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5" name="그룹 10"/>
            <p:cNvGrpSpPr/>
            <p:nvPr/>
          </p:nvGrpSpPr>
          <p:grpSpPr>
            <a:xfrm>
              <a:off x="142560" y="571320"/>
              <a:ext cx="8786880" cy="1157040"/>
              <a:chOff x="142560" y="571320"/>
              <a:chExt cx="8786880" cy="1157040"/>
            </a:xfrm>
          </p:grpSpPr>
          <p:sp>
            <p:nvSpPr>
              <p:cNvPr id="536" name="AutoShape 29"/>
              <p:cNvSpPr/>
              <p:nvPr/>
            </p:nvSpPr>
            <p:spPr>
              <a:xfrm>
                <a:off x="142560" y="57132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노인복지에서의 욕구와 문제이해의 중요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7" name="Text Box 25"/>
              <p:cNvSpPr/>
              <p:nvPr/>
            </p:nvSpPr>
            <p:spPr>
              <a:xfrm>
                <a:off x="285120" y="1039680"/>
                <a:ext cx="8644320" cy="68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욕구와 문제에 대한 이해가 선행되지 않으면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효과적인 노인복지실천이나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책의 수립이 불가능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11"/>
            <p:cNvGrpSpPr/>
            <p:nvPr/>
          </p:nvGrpSpPr>
          <p:grpSpPr>
            <a:xfrm>
              <a:off x="142560" y="1785960"/>
              <a:ext cx="8929800" cy="4714560"/>
              <a:chOff x="142560" y="1785960"/>
              <a:chExt cx="8929800" cy="4714560"/>
            </a:xfrm>
          </p:grpSpPr>
          <p:sp>
            <p:nvSpPr>
              <p:cNvPr id="539" name="AutoShape 2"/>
              <p:cNvSpPr/>
              <p:nvPr/>
            </p:nvSpPr>
            <p:spPr>
              <a:xfrm>
                <a:off x="142560" y="2143080"/>
                <a:ext cx="8929800" cy="4357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AutoShape 4"/>
              <p:cNvSpPr/>
              <p:nvPr/>
            </p:nvSpPr>
            <p:spPr>
              <a:xfrm>
                <a:off x="356760" y="178596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100" spc="-1" strike="noStrike">
                    <a:solidFill>
                      <a:srgbClr val="ffffff"/>
                    </a:solidFill>
                    <a:latin typeface="HY강B"/>
                  </a:rPr>
                  <a:t>노인의 욕구와 노인복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Text Box 6"/>
              <p:cNvSpPr/>
              <p:nvPr/>
            </p:nvSpPr>
            <p:spPr>
              <a:xfrm>
                <a:off x="285120" y="2286000"/>
                <a:ext cx="8712360" cy="41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N)=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이 도달하고자 하는 상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X)-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재 상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).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존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립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well-being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필요한 기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의 결핍 상태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욕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성원 다수가 처한 상황이 일정 목표나 기준에서 괴리되어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 상태의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복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선이 필요하다고 인정되는 욕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욕구의 내용과 범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득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관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서안정 등 다양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러한 욕구의 미충족으로 인해 역기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혼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제가 발생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는 소득보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보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보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서비스를 통해 노인의 사회적 욕구 충족을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원해야 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러나 모든 사회적 욕구가 대상이 될 수 없으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 욕구이면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고유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역과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관련되어 있고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한된 사회자원으로 해결 또는 완화가 가능한 사회적 욕구가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대상이 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구의 우선순위와 서비스 기준에 입각하여 그 기준 이내에 속한 노인의 사회적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구를 우선 충족시키는데 주력할 수밖에 없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그룹 6"/>
          <p:cNvGrpSpPr/>
          <p:nvPr/>
        </p:nvGrpSpPr>
        <p:grpSpPr>
          <a:xfrm>
            <a:off x="0" y="285840"/>
            <a:ext cx="9001080" cy="6357960"/>
            <a:chOff x="0" y="285840"/>
            <a:chExt cx="9001080" cy="6357960"/>
          </a:xfrm>
        </p:grpSpPr>
        <p:pic>
          <p:nvPicPr>
            <p:cNvPr id="543" name="Picture 2" descr="C:\DOCUME~1\USER\LOCALS~1\Temp\UNI00000dfc7a1c.gif"/>
            <p:cNvPicPr/>
            <p:nvPr/>
          </p:nvPicPr>
          <p:blipFill>
            <a:blip r:embed="rId1"/>
            <a:stretch/>
          </p:blipFill>
          <p:spPr>
            <a:xfrm>
              <a:off x="0" y="5500800"/>
              <a:ext cx="235728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4" name="그룹 1"/>
            <p:cNvGrpSpPr/>
            <p:nvPr/>
          </p:nvGrpSpPr>
          <p:grpSpPr>
            <a:xfrm>
              <a:off x="142560" y="285840"/>
              <a:ext cx="8858520" cy="5446800"/>
              <a:chOff x="142560" y="285840"/>
              <a:chExt cx="8858520" cy="5446800"/>
            </a:xfrm>
          </p:grpSpPr>
          <p:sp>
            <p:nvSpPr>
              <p:cNvPr id="545" name="AutoShape 4"/>
              <p:cNvSpPr/>
              <p:nvPr/>
            </p:nvSpPr>
            <p:spPr>
              <a:xfrm>
                <a:off x="285120" y="285840"/>
                <a:ext cx="52149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문제와 노인복지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6" name="AutoShape 2"/>
              <p:cNvSpPr/>
              <p:nvPr/>
            </p:nvSpPr>
            <p:spPr>
              <a:xfrm>
                <a:off x="142560" y="1143000"/>
                <a:ext cx="8858520" cy="4501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7" name="Text Box 6"/>
              <p:cNvSpPr/>
              <p:nvPr/>
            </p:nvSpPr>
            <p:spPr>
              <a:xfrm>
                <a:off x="285120" y="1197000"/>
                <a:ext cx="8715960" cy="453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문제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1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생존과 기본적 욕구를 본인이나 가족의 노력으로 해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충족하지 못해 삶의 불만족스러운 상태가 지속되는 현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사회문제로서의 노인문제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가치에의 위배 등 사회문제로서 갖춰야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할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지 구비요건을 충족하므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는 개인문제 아닌 사회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문제에 대한 이론적 시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구조기능주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지위 저하는 정상이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는 개인 적응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갈등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의 불평등한 배분구조가 노인문제의 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징적 상호작용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의 노인에 대한 부정적 인식이 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환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환 자원부족으로 사회적 상호작용에서 노인이 소외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것이 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그룹 7"/>
          <p:cNvGrpSpPr/>
          <p:nvPr/>
        </p:nvGrpSpPr>
        <p:grpSpPr>
          <a:xfrm>
            <a:off x="142920" y="461880"/>
            <a:ext cx="8858160" cy="6181920"/>
            <a:chOff x="142920" y="461880"/>
            <a:chExt cx="8858160" cy="6181920"/>
          </a:xfrm>
        </p:grpSpPr>
        <p:pic>
          <p:nvPicPr>
            <p:cNvPr id="549" name="Picture 2" descr="C:\DOCUME~1\USER\LOCALS~1\Temp\UNI00000dfc7a1c.gif"/>
            <p:cNvPicPr/>
            <p:nvPr/>
          </p:nvPicPr>
          <p:blipFill>
            <a:blip r:embed="rId1"/>
            <a:stretch/>
          </p:blipFill>
          <p:spPr>
            <a:xfrm>
              <a:off x="214200" y="5500800"/>
              <a:ext cx="23572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AutoShape 2"/>
            <p:cNvSpPr/>
            <p:nvPr/>
          </p:nvSpPr>
          <p:spPr>
            <a:xfrm>
              <a:off x="142920" y="1214280"/>
              <a:ext cx="8858160" cy="4358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1" name="그룹 1"/>
            <p:cNvGrpSpPr/>
            <p:nvPr/>
          </p:nvGrpSpPr>
          <p:grpSpPr>
            <a:xfrm>
              <a:off x="285480" y="461880"/>
              <a:ext cx="8715600" cy="5125320"/>
              <a:chOff x="285480" y="461880"/>
              <a:chExt cx="8715600" cy="5125320"/>
            </a:xfrm>
          </p:grpSpPr>
          <p:sp>
            <p:nvSpPr>
              <p:cNvPr id="552" name="AutoShape 4"/>
              <p:cNvSpPr/>
              <p:nvPr/>
            </p:nvSpPr>
            <p:spPr>
              <a:xfrm>
                <a:off x="285480" y="461880"/>
                <a:ext cx="52149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.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문제와 노인복지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3" name="Text Box 6"/>
              <p:cNvSpPr/>
              <p:nvPr/>
            </p:nvSpPr>
            <p:spPr>
              <a:xfrm>
                <a:off x="285480" y="1247760"/>
                <a:ext cx="8715600" cy="433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화 이론의 노인문제에 대한 관점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6, 1-7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◇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료기술발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기술발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대중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시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진행됨에 따라 노인의 지위가 하락하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 결과로 노인문제 발생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◇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는 개인보다는 사회적 요인에 의해 발생하므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가 노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제 해결의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적 책임주체가 되어야 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三苦와 四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3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+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無爲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(4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12"/>
                  </a:spcBef>
                  <a:buSzPct val="1030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 해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의 병리문제 해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제도 개선 병행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변화를 위한 노인복지실천과 사회환경의 변화를 위한 노인복지정책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모두 필요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그룹 8"/>
          <p:cNvGrpSpPr/>
          <p:nvPr/>
        </p:nvGrpSpPr>
        <p:grpSpPr>
          <a:xfrm>
            <a:off x="0" y="0"/>
            <a:ext cx="9144000" cy="6860160"/>
            <a:chOff x="0" y="0"/>
            <a:chExt cx="9144000" cy="6860160"/>
          </a:xfrm>
        </p:grpSpPr>
        <p:grpSp>
          <p:nvGrpSpPr>
            <p:cNvPr id="555" name="그룹 20"/>
            <p:cNvGrpSpPr/>
            <p:nvPr/>
          </p:nvGrpSpPr>
          <p:grpSpPr>
            <a:xfrm>
              <a:off x="0" y="0"/>
              <a:ext cx="9144000" cy="6429600"/>
              <a:chOff x="0" y="0"/>
              <a:chExt cx="9144000" cy="6429600"/>
            </a:xfrm>
          </p:grpSpPr>
          <p:sp>
            <p:nvSpPr>
              <p:cNvPr id="556" name="AutoShape 2"/>
              <p:cNvSpPr/>
              <p:nvPr/>
            </p:nvSpPr>
            <p:spPr>
              <a:xfrm>
                <a:off x="142560" y="1643040"/>
                <a:ext cx="8858520" cy="4786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57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Rectangle 2"/>
              <p:cNvSpPr/>
              <p:nvPr/>
            </p:nvSpPr>
            <p:spPr>
              <a:xfrm>
                <a:off x="1428480" y="285480"/>
                <a:ext cx="72867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HY강B"/>
                  </a:rPr>
                  <a:t>4.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노인복지학의 이해</a:t>
                </a:r>
                <a:endParaRPr b="0" lang="en-US" sz="3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59" name="그룹 10"/>
            <p:cNvGrpSpPr/>
            <p:nvPr/>
          </p:nvGrpSpPr>
          <p:grpSpPr>
            <a:xfrm>
              <a:off x="357120" y="1003320"/>
              <a:ext cx="8643960" cy="5856840"/>
              <a:chOff x="357120" y="1003320"/>
              <a:chExt cx="8643960" cy="5856840"/>
            </a:xfrm>
          </p:grpSpPr>
          <p:sp>
            <p:nvSpPr>
              <p:cNvPr id="560" name="AutoShape 4"/>
              <p:cNvSpPr/>
              <p:nvPr/>
            </p:nvSpPr>
            <p:spPr>
              <a:xfrm>
                <a:off x="357120" y="1003320"/>
                <a:ext cx="450072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년학의 개념과 영역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Text Box 6"/>
              <p:cNvSpPr/>
              <p:nvPr/>
            </p:nvSpPr>
            <p:spPr>
              <a:xfrm>
                <a:off x="357120" y="1646280"/>
                <a:ext cx="8643960" cy="521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erontology: geros(geron)(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+logos(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간역사와 궤를 같이 하나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기에 과학적 연구 본격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순수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와 노인에 대한 지식발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 응용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 해결을 위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책의 강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분야를 포괄하는 종합과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학 연구의 주제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노화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노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학의 하위분야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학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학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학 등 다양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5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생물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의 생물학적 기제 발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근의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enom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의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성 질환의 원인과 치료에 관한 연구와 임상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노년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의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대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을 위한 교육의  연구와 교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심리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에 따른 감각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기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 변화에 관한 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사회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의 발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행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인구의 사회적 영향 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 해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욕구 충족 방안 연구와 실천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그룹 16"/>
          <p:cNvGrpSpPr/>
          <p:nvPr/>
        </p:nvGrpSpPr>
        <p:grpSpPr>
          <a:xfrm>
            <a:off x="179280" y="0"/>
            <a:ext cx="8821800" cy="6438600"/>
            <a:chOff x="179280" y="0"/>
            <a:chExt cx="8821800" cy="6438600"/>
          </a:xfrm>
        </p:grpSpPr>
        <p:grpSp>
          <p:nvGrpSpPr>
            <p:cNvPr id="563" name="그룹 6"/>
            <p:cNvGrpSpPr/>
            <p:nvPr/>
          </p:nvGrpSpPr>
          <p:grpSpPr>
            <a:xfrm>
              <a:off x="180720" y="0"/>
              <a:ext cx="8820360" cy="3076920"/>
              <a:chOff x="180720" y="0"/>
              <a:chExt cx="8820360" cy="3076920"/>
            </a:xfrm>
          </p:grpSpPr>
          <p:sp>
            <p:nvSpPr>
              <p:cNvPr id="564" name="AutoShape 2"/>
              <p:cNvSpPr/>
              <p:nvPr/>
            </p:nvSpPr>
            <p:spPr>
              <a:xfrm>
                <a:off x="180720" y="1000080"/>
                <a:ext cx="8820360" cy="2071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5" name="AutoShape 7"/>
              <p:cNvSpPr/>
              <p:nvPr/>
            </p:nvSpPr>
            <p:spPr>
              <a:xfrm>
                <a:off x="285480" y="0"/>
                <a:ext cx="421488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학의 특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6" name="Text Box 25"/>
              <p:cNvSpPr/>
              <p:nvPr/>
            </p:nvSpPr>
            <p:spPr>
              <a:xfrm>
                <a:off x="213840" y="1039680"/>
                <a:ext cx="8787240" cy="20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화에 의한 노인의 은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부양기능의 약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인구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부양 및 복지비용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투자감소 등 국가경제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마이너스 효과와 국가재정의 압박요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에 정부와 학계가 노인복지 증진과 노인문제 해결을 위한 정책과 프로그램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발하는 과정에서 등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7" name="직사각형 10"/>
              <p:cNvSpPr/>
              <p:nvPr/>
            </p:nvSpPr>
            <p:spPr>
              <a:xfrm>
                <a:off x="213840" y="610920"/>
                <a:ext cx="33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인복지학의 등장배경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8" name="그룹 11"/>
            <p:cNvGrpSpPr/>
            <p:nvPr/>
          </p:nvGrpSpPr>
          <p:grpSpPr>
            <a:xfrm>
              <a:off x="179280" y="3170160"/>
              <a:ext cx="8821800" cy="3268440"/>
              <a:chOff x="179280" y="3170160"/>
              <a:chExt cx="8821800" cy="3268440"/>
            </a:xfrm>
          </p:grpSpPr>
          <p:sp>
            <p:nvSpPr>
              <p:cNvPr id="569" name="AutoShape 2"/>
              <p:cNvSpPr/>
              <p:nvPr/>
            </p:nvSpPr>
            <p:spPr>
              <a:xfrm>
                <a:off x="180720" y="3526560"/>
                <a:ext cx="8820360" cy="2902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0" name="Text Box 25"/>
              <p:cNvSpPr/>
              <p:nvPr/>
            </p:nvSpPr>
            <p:spPr>
              <a:xfrm>
                <a:off x="179280" y="3566880"/>
                <a:ext cx="8786880" cy="287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과정에서 나타나는 문제의 예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사회적 욕구충족과 발달과업 성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후 적응과 안정된 노후생활 영위를 위한 방안을 연구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책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적 개입을 통해 노년기의 삶의 질 향상을 도모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화를 촉진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학과 사회복지학의 한 분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8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합과학이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응용과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학문의 속성이 강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학의 목적인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escription, explanation, prediction, control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에서 노인복지학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control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목적을 중시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1" name="직사각형 15"/>
              <p:cNvSpPr/>
              <p:nvPr/>
            </p:nvSpPr>
            <p:spPr>
              <a:xfrm>
                <a:off x="214200" y="3170160"/>
                <a:ext cx="2786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인복지학의 개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그룹 7"/>
          <p:cNvGrpSpPr/>
          <p:nvPr/>
        </p:nvGrpSpPr>
        <p:grpSpPr>
          <a:xfrm>
            <a:off x="71280" y="71280"/>
            <a:ext cx="9001440" cy="6448680"/>
            <a:chOff x="71280" y="71280"/>
            <a:chExt cx="9001440" cy="6448680"/>
          </a:xfrm>
        </p:grpSpPr>
        <p:pic>
          <p:nvPicPr>
            <p:cNvPr id="573" name="Picture 2" descr="C:\DOCUME~1\USER\LOCALS~1\Temp\UNI00000dfc7a14.gif"/>
            <p:cNvPicPr/>
            <p:nvPr/>
          </p:nvPicPr>
          <p:blipFill>
            <a:blip r:embed="rId1"/>
            <a:stretch/>
          </p:blipFill>
          <p:spPr>
            <a:xfrm>
              <a:off x="71280" y="5786640"/>
              <a:ext cx="1266840" cy="733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4" name="그룹 11"/>
            <p:cNvGrpSpPr/>
            <p:nvPr/>
          </p:nvGrpSpPr>
          <p:grpSpPr>
            <a:xfrm>
              <a:off x="71280" y="71280"/>
              <a:ext cx="9001440" cy="5644080"/>
              <a:chOff x="71280" y="71280"/>
              <a:chExt cx="9001440" cy="5644080"/>
            </a:xfrm>
          </p:grpSpPr>
          <p:sp>
            <p:nvSpPr>
              <p:cNvPr id="575" name="AutoShape 2"/>
              <p:cNvSpPr/>
              <p:nvPr/>
            </p:nvSpPr>
            <p:spPr>
              <a:xfrm>
                <a:off x="71280" y="499680"/>
                <a:ext cx="9001440" cy="5215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6" name="Text Box 25"/>
              <p:cNvSpPr/>
              <p:nvPr/>
            </p:nvSpPr>
            <p:spPr>
              <a:xfrm>
                <a:off x="213840" y="642600"/>
                <a:ext cx="8644320" cy="504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보건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호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활치료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치학 등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양한 학문분야의 지식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술을 활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러한 다학제적 속성을 극복하기 위해 노인복지학 나름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alue, knowledge, skill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system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개발하여 독자적 학문영역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와 실천의 대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 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장년의 向老人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baby boomer)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학에서 노인의 위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와 정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의 대상인 동시에 주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 실천방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접적 개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접적 개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원적 개입 방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setting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기관과 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공공기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학의 전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학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영역의 다양화와 과학적 연구의 활성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욕구와 문제의 다양화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험 영역 확대 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문 직업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책개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접서비스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디어산업 등으로 다양화되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적 전망 또한 매우 밝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7" name="직사각형 15"/>
              <p:cNvSpPr/>
              <p:nvPr/>
            </p:nvSpPr>
            <p:spPr>
              <a:xfrm>
                <a:off x="142560" y="71280"/>
                <a:ext cx="342900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인복지학의 정체성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8" name="Rectangle 4"/>
            <p:cNvSpPr/>
            <p:nvPr/>
          </p:nvSpPr>
          <p:spPr>
            <a:xfrm>
              <a:off x="1142640" y="6000840"/>
              <a:ext cx="58582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다음 주 강의주제</a:t>
              </a:r>
              <a:r>
                <a:rPr b="1" lang="en-US" sz="24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25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노화의 과정과 결과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6"/>
          <p:cNvGrpSpPr/>
          <p:nvPr/>
        </p:nvGrpSpPr>
        <p:grpSpPr>
          <a:xfrm>
            <a:off x="-2411280" y="1857240"/>
            <a:ext cx="4032000" cy="4032000"/>
            <a:chOff x="-2411280" y="1857240"/>
            <a:chExt cx="4032000" cy="4032000"/>
          </a:xfrm>
        </p:grpSpPr>
        <p:sp>
          <p:nvSpPr>
            <p:cNvPr id="422" name="AutoShape 7"/>
            <p:cNvSpPr/>
            <p:nvPr/>
          </p:nvSpPr>
          <p:spPr>
            <a:xfrm rot="5400000">
              <a:off x="-2411280" y="1856880"/>
              <a:ext cx="4032000" cy="4032000"/>
            </a:xfrm>
            <a:custGeom>
              <a:avLst/>
              <a:gdLst>
                <a:gd name="textAreaLeft" fmla="*/ 74520 w 4032000"/>
                <a:gd name="textAreaRight" fmla="*/ 3957480 w 40320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AutoShape 8"/>
            <p:cNvSpPr/>
            <p:nvPr/>
          </p:nvSpPr>
          <p:spPr>
            <a:xfrm rot="5400000">
              <a:off x="-1265400" y="3028680"/>
              <a:ext cx="2619360" cy="1717560"/>
            </a:xfrm>
            <a:custGeom>
              <a:avLst/>
              <a:gdLst>
                <a:gd name="textAreaLeft" fmla="*/ 0 w 2619360"/>
                <a:gd name="textAreaRight" fmla="*/ 2619720 w 261936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424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1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장 노인과 노인문제의 이해</a:t>
            </a:r>
            <a:endParaRPr b="0" lang="en-US" sz="36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426" name="그룹 41"/>
          <p:cNvGrpSpPr/>
          <p:nvPr/>
        </p:nvGrpSpPr>
        <p:grpSpPr>
          <a:xfrm>
            <a:off x="0" y="1341360"/>
            <a:ext cx="8986680" cy="5421240"/>
            <a:chOff x="0" y="1341360"/>
            <a:chExt cx="8986680" cy="5421240"/>
          </a:xfrm>
        </p:grpSpPr>
        <p:sp>
          <p:nvSpPr>
            <p:cNvPr id="427" name="Rectangle 42"/>
            <p:cNvSpPr/>
            <p:nvPr/>
          </p:nvSpPr>
          <p:spPr>
            <a:xfrm>
              <a:off x="6037200" y="6429240"/>
              <a:ext cx="1657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Line 9"/>
            <p:cNvSpPr/>
            <p:nvPr/>
          </p:nvSpPr>
          <p:spPr>
            <a:xfrm flipV="1">
              <a:off x="0" y="2571480"/>
              <a:ext cx="928440" cy="142848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Line 12"/>
            <p:cNvSpPr/>
            <p:nvPr/>
          </p:nvSpPr>
          <p:spPr>
            <a:xfrm flipV="1">
              <a:off x="0" y="3643200"/>
              <a:ext cx="1285560" cy="35712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Line 13"/>
            <p:cNvSpPr/>
            <p:nvPr/>
          </p:nvSpPr>
          <p:spPr>
            <a:xfrm>
              <a:off x="0" y="4016160"/>
              <a:ext cx="998280" cy="162720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7"/>
            <p:cNvSpPr/>
            <p:nvPr/>
          </p:nvSpPr>
          <p:spPr>
            <a:xfrm>
              <a:off x="250560" y="1341360"/>
              <a:ext cx="1728720" cy="502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9e3483"/>
                </a:gs>
                <a:gs pos="50000">
                  <a:srgbClr val="ef4fc5"/>
                </a:gs>
                <a:gs pos="100000">
                  <a:srgbClr val="9e3483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학습목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2" name="Line 65"/>
            <p:cNvSpPr/>
            <p:nvPr/>
          </p:nvSpPr>
          <p:spPr>
            <a:xfrm>
              <a:off x="34920" y="4003560"/>
              <a:ext cx="1036440" cy="71100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3" name="AutoShape 3"/>
            <p:cNvSpPr/>
            <p:nvPr/>
          </p:nvSpPr>
          <p:spPr>
            <a:xfrm>
              <a:off x="1692000" y="2205000"/>
              <a:ext cx="7197840" cy="718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의 개념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4" name="AutoShape 4"/>
            <p:cNvSpPr/>
            <p:nvPr/>
          </p:nvSpPr>
          <p:spPr>
            <a:xfrm>
              <a:off x="1692000" y="3279600"/>
              <a:ext cx="7200720" cy="7207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695d04"/>
                </a:gs>
                <a:gs pos="50000">
                  <a:srgbClr val="e2c808"/>
                </a:gs>
                <a:gs pos="100000">
                  <a:srgbClr val="695d04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인구의 변화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양상과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 사회적 파장의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5" name="AutoShape 5"/>
            <p:cNvSpPr/>
            <p:nvPr/>
          </p:nvSpPr>
          <p:spPr>
            <a:xfrm>
              <a:off x="1692000" y="4352760"/>
              <a:ext cx="7197840" cy="718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333c68"/>
                </a:gs>
                <a:gs pos="50000">
                  <a:srgbClr val="6e81e0"/>
                </a:gs>
                <a:gs pos="100000">
                  <a:srgbClr val="333c68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의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욕구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문제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복지의 관련성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12"/>
            <p:cNvSpPr/>
            <p:nvPr/>
          </p:nvSpPr>
          <p:spPr>
            <a:xfrm>
              <a:off x="1785960" y="5357880"/>
              <a:ext cx="7200720" cy="718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복지학의 범위와 특성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7" name="그룹 36"/>
            <p:cNvGrpSpPr/>
            <p:nvPr/>
          </p:nvGrpSpPr>
          <p:grpSpPr>
            <a:xfrm>
              <a:off x="826920" y="2276280"/>
              <a:ext cx="720720" cy="647640"/>
              <a:chOff x="826920" y="2276280"/>
              <a:chExt cx="720720" cy="647640"/>
            </a:xfrm>
          </p:grpSpPr>
          <p:sp>
            <p:nvSpPr>
              <p:cNvPr id="438" name="Oval 81"/>
              <p:cNvSpPr/>
              <p:nvPr/>
            </p:nvSpPr>
            <p:spPr>
              <a:xfrm>
                <a:off x="844200" y="227628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9" name="Oval 82"/>
              <p:cNvSpPr/>
              <p:nvPr/>
            </p:nvSpPr>
            <p:spPr>
              <a:xfrm>
                <a:off x="844920" y="227808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40" name="Picture 83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886320" y="227988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Text Box 84"/>
              <p:cNvSpPr/>
              <p:nvPr/>
            </p:nvSpPr>
            <p:spPr>
              <a:xfrm>
                <a:off x="826920" y="22856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1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42" name="그룹 37"/>
            <p:cNvGrpSpPr/>
            <p:nvPr/>
          </p:nvGrpSpPr>
          <p:grpSpPr>
            <a:xfrm>
              <a:off x="826920" y="3352680"/>
              <a:ext cx="720720" cy="647640"/>
              <a:chOff x="826920" y="3352680"/>
              <a:chExt cx="720720" cy="647640"/>
            </a:xfrm>
          </p:grpSpPr>
          <p:sp>
            <p:nvSpPr>
              <p:cNvPr id="443" name="Oval 86"/>
              <p:cNvSpPr/>
              <p:nvPr/>
            </p:nvSpPr>
            <p:spPr>
              <a:xfrm>
                <a:off x="844200" y="335268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4" name="Oval 87"/>
              <p:cNvSpPr/>
              <p:nvPr/>
            </p:nvSpPr>
            <p:spPr>
              <a:xfrm>
                <a:off x="844920" y="335448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45" name="Picture 88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886320" y="335628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Text Box 89"/>
              <p:cNvSpPr/>
              <p:nvPr/>
            </p:nvSpPr>
            <p:spPr>
              <a:xfrm>
                <a:off x="826920" y="33620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2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47" name="그룹 38"/>
            <p:cNvGrpSpPr/>
            <p:nvPr/>
          </p:nvGrpSpPr>
          <p:grpSpPr>
            <a:xfrm>
              <a:off x="857160" y="4424400"/>
              <a:ext cx="720720" cy="647640"/>
              <a:chOff x="857160" y="4424400"/>
              <a:chExt cx="720720" cy="647640"/>
            </a:xfrm>
          </p:grpSpPr>
          <p:sp>
            <p:nvSpPr>
              <p:cNvPr id="448" name="Oval 91"/>
              <p:cNvSpPr/>
              <p:nvPr/>
            </p:nvSpPr>
            <p:spPr>
              <a:xfrm>
                <a:off x="874440" y="442440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9" name="Oval 92"/>
              <p:cNvSpPr/>
              <p:nvPr/>
            </p:nvSpPr>
            <p:spPr>
              <a:xfrm>
                <a:off x="875160" y="442620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50" name="Picture 93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916560" y="442800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Text Box 94"/>
              <p:cNvSpPr/>
              <p:nvPr/>
            </p:nvSpPr>
            <p:spPr>
              <a:xfrm>
                <a:off x="857160" y="443376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3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2" name="그룹 39"/>
            <p:cNvGrpSpPr/>
            <p:nvPr/>
          </p:nvGrpSpPr>
          <p:grpSpPr>
            <a:xfrm>
              <a:off x="857160" y="5424480"/>
              <a:ext cx="720720" cy="647640"/>
              <a:chOff x="857160" y="5424480"/>
              <a:chExt cx="720720" cy="647640"/>
            </a:xfrm>
          </p:grpSpPr>
          <p:sp>
            <p:nvSpPr>
              <p:cNvPr id="453" name="Oval 96"/>
              <p:cNvSpPr/>
              <p:nvPr/>
            </p:nvSpPr>
            <p:spPr>
              <a:xfrm>
                <a:off x="874440" y="542448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4" name="Oval 97"/>
              <p:cNvSpPr/>
              <p:nvPr/>
            </p:nvSpPr>
            <p:spPr>
              <a:xfrm>
                <a:off x="875160" y="542628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55" name="Picture 98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916560" y="542808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Text Box 99"/>
              <p:cNvSpPr/>
              <p:nvPr/>
            </p:nvSpPr>
            <p:spPr>
              <a:xfrm>
                <a:off x="857160" y="54338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4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그룹 6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pic>
          <p:nvPicPr>
            <p:cNvPr id="45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AutoShape 5"/>
            <p:cNvSpPr/>
            <p:nvPr/>
          </p:nvSpPr>
          <p:spPr>
            <a:xfrm>
              <a:off x="607680" y="2643120"/>
              <a:ext cx="432108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1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)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을 지칭하는 용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AutoShape 10"/>
            <p:cNvSpPr/>
            <p:nvPr/>
          </p:nvSpPr>
          <p:spPr>
            <a:xfrm>
              <a:off x="500040" y="3143160"/>
              <a:ext cx="8215560" cy="3357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말뜻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나이 들어 늙은 사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나이가 들어 제반 기능이 저하된 사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나이든 사람에 대한 일반적 호칭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기라는 발달과정상의 시간적 의미가 강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고령자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장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층의 보다 넓은 인구계층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특히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55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 이상의 자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상용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할머니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할아버지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어르신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존칭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), 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한아비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古語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)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영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older person, aged, elderly, senior citizen, golden age, third age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프랑스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제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대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본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실버세대 또는 노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중국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長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60+),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尊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70+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에 대한 다양한 존칭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중립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비하어가 존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학술연구에서는</a:t>
              </a: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노인</a:t>
              </a: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’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이라는 중립적 용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그리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실천과 일상에서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 ‘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어르신</a:t>
              </a: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’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이라는 용어가 적절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AutoShape 29"/>
            <p:cNvSpPr/>
            <p:nvPr/>
          </p:nvSpPr>
          <p:spPr>
            <a:xfrm>
              <a:off x="285480" y="785520"/>
              <a:ext cx="8572680" cy="1714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노인에 대한 개념정의 필요성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인간의 발달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성장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성숙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연령과 생물적 노화만을 근거로 노화단계의 사람을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</a:t>
              </a:r>
              <a:r>
                <a:rPr b="0" lang="ko-KR" sz="1800" spc="-1" strike="noStrike">
                  <a:solidFill>
                    <a:srgbClr val="111f65"/>
                  </a:solidFill>
                  <a:latin typeface="굴림"/>
                  <a:ea typeface="HY강M"/>
                </a:rPr>
                <a:t>’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이라 부르기도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그러나 노화의 복합성과 개인차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사회적 요인이 복잡하게 연관되어 있으므로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객관적 연구와 전문실천을 위해 노인의 뜻매김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0" lang="en-US" sz="3600" spc="-1" strike="noStrike">
                  <a:solidFill>
                    <a:srgbClr val="ffffff"/>
                  </a:solidFill>
                  <a:latin typeface="HY강B"/>
                </a:rPr>
                <a:t>노인에 대한 이해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10"/>
          <p:cNvGrpSpPr/>
          <p:nvPr/>
        </p:nvGrpSpPr>
        <p:grpSpPr>
          <a:xfrm>
            <a:off x="181080" y="142920"/>
            <a:ext cx="8924760" cy="6215040"/>
            <a:chOff x="181080" y="142920"/>
            <a:chExt cx="8924760" cy="6215040"/>
          </a:xfrm>
        </p:grpSpPr>
        <p:grpSp>
          <p:nvGrpSpPr>
            <p:cNvPr id="464" name="그룹 10"/>
            <p:cNvGrpSpPr/>
            <p:nvPr/>
          </p:nvGrpSpPr>
          <p:grpSpPr>
            <a:xfrm>
              <a:off x="181080" y="142920"/>
              <a:ext cx="8820000" cy="3143160"/>
              <a:chOff x="181080" y="142920"/>
              <a:chExt cx="8820000" cy="3143160"/>
            </a:xfrm>
          </p:grpSpPr>
          <p:sp>
            <p:nvSpPr>
              <p:cNvPr id="465" name="AutoShape 2"/>
              <p:cNvSpPr/>
              <p:nvPr/>
            </p:nvSpPr>
            <p:spPr>
              <a:xfrm>
                <a:off x="181080" y="642960"/>
                <a:ext cx="8820000" cy="2643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AutoShape 4"/>
              <p:cNvSpPr/>
              <p:nvPr/>
            </p:nvSpPr>
            <p:spPr>
              <a:xfrm>
                <a:off x="285840" y="142920"/>
                <a:ext cx="3635280" cy="46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2</a:t>
                </a:r>
                <a:r>
                  <a:rPr b="1" lang="en-US" sz="2200" spc="-1" strike="noStrike">
                    <a:solidFill>
                      <a:srgbClr val="ffffff"/>
                    </a:solidFill>
                    <a:latin typeface="HY강B"/>
                  </a:rPr>
                  <a:t>)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노인의 개념 정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Text Box 6"/>
              <p:cNvSpPr/>
              <p:nvPr/>
            </p:nvSpPr>
            <p:spPr>
              <a:xfrm>
                <a:off x="285840" y="695160"/>
                <a:ext cx="8639280" cy="255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Breen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로 인하여 생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기능이 감퇴한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국제노년학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경적 변화 및 행동적 변화가 복합적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호작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는 과정에 있는 사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 중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최성재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인협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리적 및 신체적 기능의 퇴화와 더불어 심리적인 변화가 일어나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의 자기유지기능과 사회적 역할기능이 약화되고 있는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종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의 과정 또는 그 결과로 생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기능이 약화되어 자립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활능력과 환경에 대한 적응능력이 약화되고 있는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8" name="그룹 9"/>
            <p:cNvGrpSpPr/>
            <p:nvPr/>
          </p:nvGrpSpPr>
          <p:grpSpPr>
            <a:xfrm>
              <a:off x="181080" y="3500640"/>
              <a:ext cx="8924760" cy="2857320"/>
              <a:chOff x="181080" y="3500640"/>
              <a:chExt cx="8924760" cy="2857320"/>
            </a:xfrm>
          </p:grpSpPr>
          <p:sp>
            <p:nvSpPr>
              <p:cNvPr id="469" name="AutoShape 2"/>
              <p:cNvSpPr/>
              <p:nvPr/>
            </p:nvSpPr>
            <p:spPr>
              <a:xfrm>
                <a:off x="181080" y="4429080"/>
                <a:ext cx="8820000" cy="1928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AutoShape 7"/>
              <p:cNvSpPr/>
              <p:nvPr/>
            </p:nvSpPr>
            <p:spPr>
              <a:xfrm>
                <a:off x="390600" y="3500640"/>
                <a:ext cx="3635280" cy="46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3</a:t>
                </a:r>
                <a:r>
                  <a:rPr b="1" lang="en-US" sz="2200" spc="-1" strike="noStrike">
                    <a:solidFill>
                      <a:srgbClr val="ffffff"/>
                    </a:solidFill>
                    <a:latin typeface="HY강B"/>
                  </a:rPr>
                  <a:t>)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노인의 조작적 정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Text Box 25"/>
              <p:cNvSpPr/>
              <p:nvPr/>
            </p:nvSpPr>
            <p:spPr>
              <a:xfrm>
                <a:off x="390600" y="4500720"/>
                <a:ext cx="871524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주관적 판단에 의해 스스로 노인으로 규정할 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인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년기 이후에는 자각연령이 실제 연령보다 낮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시작 연령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9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4%, 70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초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9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전후 노인으로 인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상생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인관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 등에서는 바람직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한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관적이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추상적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어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나 정책에 활용하는 데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72" name="AutoShape 29"/>
            <p:cNvSpPr/>
            <p:nvPr/>
          </p:nvSpPr>
          <p:spPr>
            <a:xfrm>
              <a:off x="285840" y="392904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개인의 자각에 의한 노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AutoShape 2"/>
          <p:cNvSpPr/>
          <p:nvPr/>
        </p:nvSpPr>
        <p:spPr>
          <a:xfrm>
            <a:off x="71280" y="614520"/>
            <a:ext cx="8999640" cy="324324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4" name="Text Box 25"/>
          <p:cNvSpPr/>
          <p:nvPr/>
        </p:nvSpPr>
        <p:spPr>
          <a:xfrm>
            <a:off x="142920" y="663480"/>
            <a:ext cx="900108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buSzPct val="10298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가장 보편적으로 활용되는 정의로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만나이를 기준으로 노인 정의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고령자고용촉진법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(5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)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연금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(60-6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)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노인복지법과 기초연금법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(6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)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의 연령 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  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기준이 다르고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회갑 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60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정년연령 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60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이지만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6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로 규정함이 일반적임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장점</a:t>
            </a:r>
            <a:r>
              <a:rPr b="0" lang="en-US" sz="1900" spc="-1" strike="noStrike">
                <a:solidFill>
                  <a:srgbClr val="af334e"/>
                </a:solidFill>
                <a:latin typeface="HY강M"/>
                <a:ea typeface="HY강M"/>
              </a:rPr>
              <a:t>: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비교적 객관적이므로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입법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정책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행정 기준으로 활용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한계</a:t>
            </a:r>
            <a:r>
              <a:rPr b="0" lang="en-US" sz="1900" spc="-1" strike="noStrike">
                <a:solidFill>
                  <a:srgbClr val="af334e"/>
                </a:solidFill>
                <a:latin typeface="HY강M"/>
                <a:ea typeface="HY강M"/>
              </a:rPr>
              <a:t>: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노인의 개인차 무시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30-40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년의 연령차에도 동일집단 간주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7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노인인구의 집단구분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5" name="그룹 6"/>
          <p:cNvGrpSpPr/>
          <p:nvPr/>
        </p:nvGrpSpPr>
        <p:grpSpPr>
          <a:xfrm>
            <a:off x="71280" y="4489560"/>
            <a:ext cx="8999640" cy="1868400"/>
            <a:chOff x="71280" y="4489560"/>
            <a:chExt cx="8999640" cy="1868400"/>
          </a:xfrm>
        </p:grpSpPr>
        <p:sp>
          <p:nvSpPr>
            <p:cNvPr id="476" name="AutoShape 2"/>
            <p:cNvSpPr/>
            <p:nvPr/>
          </p:nvSpPr>
          <p:spPr>
            <a:xfrm>
              <a:off x="71280" y="4489560"/>
              <a:ext cx="8999640" cy="1868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Text Box 25"/>
            <p:cNvSpPr/>
            <p:nvPr/>
          </p:nvSpPr>
          <p:spPr>
            <a:xfrm>
              <a:off x="285480" y="4500360"/>
              <a:ext cx="8644320" cy="18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buSzPct val="10298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social clock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또는 사회적 연령의 개념을 적용하여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위와 역할의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획득과 상실을 기준으로 노인 정의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985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부역할 이양자 등이 노인임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985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장점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위와 역할을 중시하여 생산적 노화를 지향하는 점은 바람직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985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한계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위와 역할이 불분명하거나 없었던 사람에게 적용 불가능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TextBox 12"/>
          <p:cNvSpPr/>
          <p:nvPr/>
        </p:nvSpPr>
        <p:spPr>
          <a:xfrm>
            <a:off x="214200" y="3102120"/>
            <a:ext cx="892980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1d528d"/>
                </a:solidFill>
                <a:latin typeface="Arial"/>
                <a:ea typeface="HY강B"/>
              </a:rPr>
              <a:t>  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최근 외국에서는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75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 미만을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young-old, 75-84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를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older-old, 85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 이상을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oldest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    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old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로 구분하는 것이 일반적이며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, 10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 단위 구분법도 있으나 학자마다 다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AutoShape 29"/>
          <p:cNvSpPr/>
          <p:nvPr/>
        </p:nvSpPr>
        <p:spPr>
          <a:xfrm>
            <a:off x="142920" y="0"/>
            <a:ext cx="8572320" cy="571680"/>
          </a:xfrm>
          <a:prstGeom prst="roundRect">
            <a:avLst>
              <a:gd name="adj" fmla="val 13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  </a:t>
            </a:r>
            <a:r>
              <a:rPr b="0" lang="ko-KR" sz="2400" spc="-1" strike="noStrike">
                <a:solidFill>
                  <a:srgbClr val="c00000"/>
                </a:solidFill>
                <a:latin typeface="Arial"/>
              </a:rPr>
              <a:t>역연령에 의한 노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0" name="AutoShape 29"/>
          <p:cNvSpPr/>
          <p:nvPr/>
        </p:nvSpPr>
        <p:spPr>
          <a:xfrm>
            <a:off x="142920" y="3929040"/>
            <a:ext cx="8572320" cy="571680"/>
          </a:xfrm>
          <a:prstGeom prst="roundRect">
            <a:avLst>
              <a:gd name="adj" fmla="val 13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  </a:t>
            </a:r>
            <a:r>
              <a:rPr b="0" lang="ko-KR" sz="2400" spc="-1" strike="noStrike">
                <a:solidFill>
                  <a:srgbClr val="c00000"/>
                </a:solidFill>
                <a:latin typeface="Arial"/>
              </a:rPr>
              <a:t>사회적 역할 상실에 의한 노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그룹 13"/>
          <p:cNvGrpSpPr/>
          <p:nvPr/>
        </p:nvGrpSpPr>
        <p:grpSpPr>
          <a:xfrm>
            <a:off x="358560" y="69840"/>
            <a:ext cx="8714160" cy="6288120"/>
            <a:chOff x="358560" y="69840"/>
            <a:chExt cx="8714160" cy="6288120"/>
          </a:xfrm>
        </p:grpSpPr>
        <p:grpSp>
          <p:nvGrpSpPr>
            <p:cNvPr id="482" name="그룹 6"/>
            <p:cNvGrpSpPr/>
            <p:nvPr/>
          </p:nvGrpSpPr>
          <p:grpSpPr>
            <a:xfrm>
              <a:off x="359640" y="69840"/>
              <a:ext cx="8713080" cy="3216240"/>
              <a:chOff x="359640" y="69840"/>
              <a:chExt cx="8713080" cy="3216240"/>
            </a:xfrm>
          </p:grpSpPr>
          <p:sp>
            <p:nvSpPr>
              <p:cNvPr id="483" name="AutoShape 2"/>
              <p:cNvSpPr/>
              <p:nvPr/>
            </p:nvSpPr>
            <p:spPr>
              <a:xfrm>
                <a:off x="359640" y="412560"/>
                <a:ext cx="8640360" cy="2873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Text Box 25"/>
              <p:cNvSpPr/>
              <p:nvPr/>
            </p:nvSpPr>
            <p:spPr>
              <a:xfrm>
                <a:off x="431640" y="495000"/>
                <a:ext cx="8641080" cy="273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노년학분야에서 신체기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기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성 등 기능적 연령을 근거로 규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과 생산성사이에 반드시 정적 상관성이 존재하지는 않으므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연령보다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능수준을 근거로 퇴직시키는 것이 바람직하다는 이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 업무나 일을 수행할 수 없을 정도로 기능이 저하된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개인 차이를 고려할 수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단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능적 연령을 평가할 수 있는 기준과 영역이 매우 복잡하여 정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서의 활용도가 낮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직사각형 10"/>
              <p:cNvSpPr/>
              <p:nvPr/>
            </p:nvSpPr>
            <p:spPr>
              <a:xfrm>
                <a:off x="898200" y="69840"/>
                <a:ext cx="227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기능적 연령에 의한 노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6" name="그룹 6"/>
            <p:cNvGrpSpPr/>
            <p:nvPr/>
          </p:nvGrpSpPr>
          <p:grpSpPr>
            <a:xfrm>
              <a:off x="358560" y="3357720"/>
              <a:ext cx="8710920" cy="1643040"/>
              <a:chOff x="358560" y="3357720"/>
              <a:chExt cx="8710920" cy="1643040"/>
            </a:xfrm>
          </p:grpSpPr>
          <p:sp>
            <p:nvSpPr>
              <p:cNvPr id="487" name="AutoShape 2"/>
              <p:cNvSpPr/>
              <p:nvPr/>
            </p:nvSpPr>
            <p:spPr>
              <a:xfrm>
                <a:off x="358560" y="3743280"/>
                <a:ext cx="8641440" cy="12574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Text Box 25"/>
              <p:cNvSpPr/>
              <p:nvPr/>
            </p:nvSpPr>
            <p:spPr>
              <a:xfrm>
                <a:off x="428400" y="3800520"/>
                <a:ext cx="8641080" cy="11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간발달단계상 노화가 일어나는 삶의 마지막 시기에 속한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달단계 구분에 따라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후반부터 후기 성인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초기 노년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 6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또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터 노년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후기 노년기로 구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직사각형 15"/>
              <p:cNvSpPr/>
              <p:nvPr/>
            </p:nvSpPr>
            <p:spPr>
              <a:xfrm>
                <a:off x="848160" y="3357720"/>
                <a:ext cx="205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발달단계에 따른 노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0" name="그룹 6"/>
            <p:cNvGrpSpPr/>
            <p:nvPr/>
          </p:nvGrpSpPr>
          <p:grpSpPr>
            <a:xfrm>
              <a:off x="361080" y="5143680"/>
              <a:ext cx="8646480" cy="1214280"/>
              <a:chOff x="361080" y="5143680"/>
              <a:chExt cx="8646480" cy="1214280"/>
            </a:xfrm>
          </p:grpSpPr>
          <p:sp>
            <p:nvSpPr>
              <p:cNvPr id="491" name="AutoShape 2"/>
              <p:cNvSpPr/>
              <p:nvPr/>
            </p:nvSpPr>
            <p:spPr>
              <a:xfrm>
                <a:off x="361080" y="5510160"/>
                <a:ext cx="8640360" cy="847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2" name="Text Box 25"/>
              <p:cNvSpPr/>
              <p:nvPr/>
            </p:nvSpPr>
            <p:spPr>
              <a:xfrm>
                <a:off x="428400" y="5573880"/>
                <a:ext cx="8579160" cy="71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각각의 정의 모두 장단점이 있으므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연령에 의한 정의를 기반으로 이를 보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할 수 있는 정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~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지를 복합적으로 활용함이 바람직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3" name="직사각형 19"/>
              <p:cNvSpPr/>
              <p:nvPr/>
            </p:nvSpPr>
            <p:spPr>
              <a:xfrm>
                <a:off x="902880" y="5143680"/>
                <a:ext cx="227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조작적 정의에 대한 결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그룹 11"/>
          <p:cNvGrpSpPr/>
          <p:nvPr/>
        </p:nvGrpSpPr>
        <p:grpSpPr>
          <a:xfrm>
            <a:off x="0" y="0"/>
            <a:ext cx="9182160" cy="6654960"/>
            <a:chOff x="0" y="0"/>
            <a:chExt cx="9182160" cy="6654960"/>
          </a:xfrm>
        </p:grpSpPr>
        <p:sp>
          <p:nvSpPr>
            <p:cNvPr id="495" name="AutoShape 2"/>
            <p:cNvSpPr/>
            <p:nvPr/>
          </p:nvSpPr>
          <p:spPr>
            <a:xfrm>
              <a:off x="180720" y="1285920"/>
              <a:ext cx="8820720" cy="2357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6" name="AutoShape 2"/>
            <p:cNvSpPr/>
            <p:nvPr/>
          </p:nvSpPr>
          <p:spPr>
            <a:xfrm>
              <a:off x="180720" y="4215240"/>
              <a:ext cx="8820720" cy="2428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9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7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Rectangle 2"/>
            <p:cNvSpPr/>
            <p:nvPr/>
          </p:nvSpPr>
          <p:spPr>
            <a:xfrm>
              <a:off x="1428840" y="142560"/>
              <a:ext cx="7287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0" lang="ko-KR" sz="3100" spc="-1" strike="noStrike">
                  <a:solidFill>
                    <a:srgbClr val="ffffff"/>
                  </a:solidFill>
                  <a:latin typeface="HY강B"/>
                </a:rPr>
                <a:t>노인인구의 변화와 사회적 영향</a:t>
              </a:r>
              <a:endParaRPr b="0" lang="en-US" sz="3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9" name="그룹 10"/>
            <p:cNvGrpSpPr/>
            <p:nvPr/>
          </p:nvGrpSpPr>
          <p:grpSpPr>
            <a:xfrm>
              <a:off x="142560" y="785520"/>
              <a:ext cx="9039600" cy="2921040"/>
              <a:chOff x="142560" y="785520"/>
              <a:chExt cx="9039600" cy="2921040"/>
            </a:xfrm>
          </p:grpSpPr>
          <p:sp>
            <p:nvSpPr>
              <p:cNvPr id="500" name="AutoShape 29"/>
              <p:cNvSpPr/>
              <p:nvPr/>
            </p:nvSpPr>
            <p:spPr>
              <a:xfrm>
                <a:off x="142560" y="785520"/>
                <a:ext cx="857340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인구 변화에 대한 이해 필요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Text Box 25"/>
              <p:cNvSpPr/>
              <p:nvPr/>
            </p:nvSpPr>
            <p:spPr>
              <a:xfrm>
                <a:off x="322920" y="1318680"/>
                <a:ext cx="8859240" cy="23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구조 변화는 사회 전반의 변화 초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따라서 국가정책의 우선순위와 장기적 대책 수립을 위해서는 인구구조 변화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한 고찰이 선행되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계 인구구조 변화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증가율은 둔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출산율의 저하와 평균수명증가로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인구의 절대수와 비율의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20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+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비율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% +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1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비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0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유럽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5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아시아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4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아프리카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0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2" name="그룹 15"/>
            <p:cNvGrpSpPr/>
            <p:nvPr/>
          </p:nvGrpSpPr>
          <p:grpSpPr>
            <a:xfrm>
              <a:off x="142560" y="3701880"/>
              <a:ext cx="9039600" cy="2953080"/>
              <a:chOff x="142560" y="3701880"/>
              <a:chExt cx="9039600" cy="2953080"/>
            </a:xfrm>
          </p:grpSpPr>
          <p:sp>
            <p:nvSpPr>
              <p:cNvPr id="503" name="AutoShape 29"/>
              <p:cNvSpPr/>
              <p:nvPr/>
            </p:nvSpPr>
            <p:spPr>
              <a:xfrm>
                <a:off x="142560" y="3701880"/>
                <a:ext cx="857340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인구 증가의 배경요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4" name="Text Box 25"/>
              <p:cNvSpPr/>
              <p:nvPr/>
            </p:nvSpPr>
            <p:spPr>
              <a:xfrm>
                <a:off x="322920" y="4267080"/>
                <a:ext cx="8859240" cy="23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보건의료기술의 발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에 대한 관심과 건강서비스의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영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생환경 등 전반적 생활수준 향상→ 이 세요인으로 노인 절대수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력 수요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자녀 가치관 확대로 출산율 저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비율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리나라의 경우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대 이후 산업화 과정을 거치면서 사망률과 출산율이 저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되어 노인인구 수와 비율이 급격히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그룹 9"/>
          <p:cNvGrpSpPr/>
          <p:nvPr/>
        </p:nvGrpSpPr>
        <p:grpSpPr>
          <a:xfrm>
            <a:off x="71280" y="71280"/>
            <a:ext cx="9215640" cy="6286680"/>
            <a:chOff x="71280" y="71280"/>
            <a:chExt cx="9215640" cy="6286680"/>
          </a:xfrm>
        </p:grpSpPr>
        <p:grpSp>
          <p:nvGrpSpPr>
            <p:cNvPr id="506" name="그룹 1"/>
            <p:cNvGrpSpPr/>
            <p:nvPr/>
          </p:nvGrpSpPr>
          <p:grpSpPr>
            <a:xfrm>
              <a:off x="71280" y="71280"/>
              <a:ext cx="9000000" cy="1847880"/>
              <a:chOff x="71280" y="71280"/>
              <a:chExt cx="9000000" cy="1847880"/>
            </a:xfrm>
          </p:grpSpPr>
          <p:sp>
            <p:nvSpPr>
              <p:cNvPr id="507" name="AutoShape 2"/>
              <p:cNvSpPr/>
              <p:nvPr/>
            </p:nvSpPr>
            <p:spPr>
              <a:xfrm>
                <a:off x="71280" y="642960"/>
                <a:ext cx="9000000" cy="1276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285480" y="71280"/>
                <a:ext cx="360072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평균수명의 연장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142560" y="714240"/>
                <a:ext cx="8639640" cy="114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난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간 평균 수명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.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증가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1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균수명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3.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3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5.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8.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로 연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생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시대 눈앞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의 평균수명 차이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.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3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.1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9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10" name="그룹 5"/>
            <p:cNvGrpSpPr/>
            <p:nvPr/>
          </p:nvGrpSpPr>
          <p:grpSpPr>
            <a:xfrm>
              <a:off x="71280" y="2131920"/>
              <a:ext cx="9215640" cy="4226040"/>
              <a:chOff x="71280" y="2131920"/>
              <a:chExt cx="9215640" cy="4226040"/>
            </a:xfrm>
          </p:grpSpPr>
          <p:sp>
            <p:nvSpPr>
              <p:cNvPr id="511" name="AutoShape 2"/>
              <p:cNvSpPr/>
              <p:nvPr/>
            </p:nvSpPr>
            <p:spPr>
              <a:xfrm>
                <a:off x="71280" y="2727000"/>
                <a:ext cx="9001440" cy="3630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2" name="AutoShape 4"/>
              <p:cNvSpPr/>
              <p:nvPr/>
            </p:nvSpPr>
            <p:spPr>
              <a:xfrm>
                <a:off x="285480" y="2131920"/>
                <a:ext cx="3600360" cy="439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인구 증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3" name="Text Box 6"/>
              <p:cNvSpPr/>
              <p:nvPr/>
            </p:nvSpPr>
            <p:spPr>
              <a:xfrm>
                <a:off x="142560" y="2786040"/>
                <a:ext cx="9144360" cy="338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인구 증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39.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7.2%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45.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1.0%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12.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5.7%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,900.7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39.8%)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). 1970-2020</a:t>
                </a:r>
                <a:r>
                  <a:rPr b="0" lang="ko-KR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년 사이에 노인인구 절대 수 </a:t>
                </a:r>
                <a:r>
                  <a:rPr b="0" lang="en-US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8.2</a:t>
                </a:r>
                <a:r>
                  <a:rPr b="0" lang="ko-KR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배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증가속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ging society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ged society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uper aged society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7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%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증가에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6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소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본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6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랑스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국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소요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3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빠른 증가 이유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균수명 연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출산율 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baby boom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721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명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노인인구 전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화지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= 65+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14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1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8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29%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47%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2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구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8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피라미드형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역피라미드형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2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패러다임 전환 없이는 인구고령화 문제해결에 한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그룹 6"/>
          <p:cNvGrpSpPr/>
          <p:nvPr/>
        </p:nvGrpSpPr>
        <p:grpSpPr>
          <a:xfrm>
            <a:off x="181080" y="214200"/>
            <a:ext cx="8820000" cy="6148440"/>
            <a:chOff x="181080" y="214200"/>
            <a:chExt cx="8820000" cy="6148440"/>
          </a:xfrm>
        </p:grpSpPr>
        <p:grpSp>
          <p:nvGrpSpPr>
            <p:cNvPr id="515" name="그룹 1"/>
            <p:cNvGrpSpPr/>
            <p:nvPr/>
          </p:nvGrpSpPr>
          <p:grpSpPr>
            <a:xfrm>
              <a:off x="181080" y="214200"/>
              <a:ext cx="8820000" cy="4516560"/>
              <a:chOff x="181080" y="214200"/>
              <a:chExt cx="8820000" cy="4516560"/>
            </a:xfrm>
          </p:grpSpPr>
          <p:sp>
            <p:nvSpPr>
              <p:cNvPr id="516" name="AutoShape 2"/>
              <p:cNvSpPr/>
              <p:nvPr/>
            </p:nvSpPr>
            <p:spPr>
              <a:xfrm>
                <a:off x="181080" y="928440"/>
                <a:ext cx="8820000" cy="3724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7" name="AutoShape 4"/>
              <p:cNvSpPr/>
              <p:nvPr/>
            </p:nvSpPr>
            <p:spPr>
              <a:xfrm>
                <a:off x="285840" y="214200"/>
                <a:ext cx="40719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인구의 부양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Text Box 6"/>
              <p:cNvSpPr/>
              <p:nvPr/>
            </p:nvSpPr>
            <p:spPr>
              <a:xfrm>
                <a:off x="288720" y="1000080"/>
                <a:ext cx="8640720" cy="373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부양비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= 65+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15-6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연령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4 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0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.1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1.7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3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8.2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7.6%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연령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2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2.1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03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5.4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-3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부양에 따르는 부담 증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-2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55-6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는 경제활동 미참여 인구가 많으며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질 생산연령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는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5-5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로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질적 노인부양 부담은 통계치보다 높음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부터 유소년부양비가 노인부양비보다 낮아져 정책우선순위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결정과정에서 갈등 유발 가능성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519" name="Picture 2" descr="C:\DOCUME~1\USER\LOCALS~1\Temp\UNI00000c2870a4.gif"/>
            <p:cNvPicPr/>
            <p:nvPr/>
          </p:nvPicPr>
          <p:blipFill>
            <a:blip r:embed="rId6"/>
            <a:stretch/>
          </p:blipFill>
          <p:spPr>
            <a:xfrm>
              <a:off x="4500000" y="4743000"/>
              <a:ext cx="4501080" cy="161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0T19:41:32Z</dcterms:modified>
  <cp:revision>184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